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79AAB-6056-409A-AB94-00BC7D50A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0DBF6-8E71-4D31-AAB4-BBBC1DE66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A9194-200D-41D1-BB96-223FC4F3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DFBE4-7610-42F9-AAE9-C41E8F05E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FDB6-992F-45BA-A1DF-711C3B7D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8D52-2E7B-47FB-89BA-3A47393C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E7F85-BD1F-40C3-B0F7-8FCDD781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D1F5B-6467-4C5B-93F0-23F7AF34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597E9-E08E-40B6-A35E-C97C2031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9444-23A9-4D79-BC44-AC275728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E7CE7-0CA2-4C97-B4E3-D9B4EFD8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E42FC-171D-4A64-BAD7-9CA207F34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C261-48E1-4CEC-8304-B1F5D93E2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So will the iPod benefit education?</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Absolutely!!!</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re is a need to positively incorporate iPods in classrooms.  Right now this technology is often looked down upon as a nuisance in the classroom.  Students use them for entertainment purposes during class.  Why not take this opportunity to turn a negative into a positive?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What are the benefit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iPods have numerous uses in the classroom and have proved to be beneficial as the previously provided research studies in this presentation have show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Its music playing capability can be  beneficial given certain less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It can serve as a hard drive storage b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Educational movies and pictures can be downloaded</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Even lectures on the go provided via podcast are possibl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Is there a nee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Yes!  As mentioned, this would be one less battle for teachers to face in the classroom.  Secondly, this differentiates instruction which is always looked positively upon.  Third, iPods are definitely less expensive than computers.  Next, incorporating the use of technology prepares students for a world outside of the classroo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Where do I stan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Obviously, this innovation is extremely important to me.  I understand the frustration of adjusting routine lessons to try something new.  On the other hand, I understand the importance of providing my students with the most enriching learning experience possible.  If that means incorporating new innovations such as iPods, by all means it is necessary!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is will be no means be an easy task to do, but if we follow the designed plan with the use of a change agent and pilot group, a collective innovation-decision will prove beneficial for the social system!  I am willing to try…are you?</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0:51:58Z</dcterms:created>
  <dc:creator>e200511093</dc:creator>
  <dc:description/>
  <dc:language>en-US</dc:language>
  <cp:lastModifiedBy>e200511093</cp:lastModifiedBy>
  <dcterms:modified xsi:type="dcterms:W3CDTF">2009-07-30T00:52:33Z</dcterms:modified>
  <cp:revision>1</cp:revision>
  <dc:subject/>
  <dc:title>So will the iPod benefit education?</dc:title>
</cp:coreProperties>
</file>